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A59C-2D43-4380-86BE-7BC14E40F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3751-5617-44B2-AA7F-351525F70F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735-FA79-47A7-AF1C-67CF860A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716-4448-493A-A43D-47461E62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145D-6526-48B4-AFC5-07EF0584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ADF-B261-4C0E-AB8B-FF674BB1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198-994D-4A6E-9067-89F68272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63C-5416-4997-912F-AF3F008C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11D-BFC0-4C3D-BE3B-64B55F49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300-4B9E-4541-B655-2C69973A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B84-CA47-4AB5-9354-19607455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4C0-C7CC-40D0-9B60-0A598835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D8F-0C34-476B-B527-9B985A1C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475-E4CA-4371-8357-94ADB4EC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1F3A-AC5E-41C1-AE3F-2474B171C3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A874-F09F-4F48-8D2A-CBA517B3C5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апрел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1EC6-2561-4BC3-83CF-8496110A8B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апрел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3-05-04T11:01:52Z</dcterms:modified>
  <cp:revision>151</cp:revision>
  <dc:subject/>
  <dc:title>Презентация PowerPoint</dc:title>
</cp:coreProperties>
</file>